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FF8A-D1AA-42F9-B773-0953442CD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F5E8-1FF3-411A-95B2-A375094C5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promotion and education being an important input to modify the negative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0FA-53BA-40E8-B91E-2F1A690D3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ments in education can yield huge bene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28B1-C318-4D4D-ABB7-0CB8F494C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700C-F6F6-4E73-89B1-78ED19ECB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552-6636-4CB6-9879-41346634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092-C1B2-4E45-8BF4-4C985A0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1F5-B85A-4370-8555-F8E68ABF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2CB-1081-4F84-9B4F-D4248FC5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C23-0263-4237-9E72-CB445DD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021-8303-412C-BF4D-0F1D0268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372-CE7A-46A4-B3DE-96B8B3B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6C7-2D50-4D60-B351-BEB71C31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36C-2FC7-4F2D-8A56-3F9A1D6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82B-90F7-4CA2-B5D7-D0865D7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0B9-9B11-45B9-B4FB-1BD1B4EC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6A-15E3-4571-B87D-5F1ABF4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B49-2311-40B9-92B3-E3E2A719E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a-IN" sz="1200" spc="-1" strike="noStrike">
                <a:solidFill>
                  <a:srgbClr val="898989"/>
                </a:solidFill>
                <a:latin typeface="Calibri"/>
                <a:cs typeface="Lath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2505-F1AF-4A42-BAC0-632EB96D7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676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பள்ளிகளில் மாணவர்களின் 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தேசிய கல்வியியல் ஆராய்ச்சி மற்றும் பயிற்சி குழுமம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புதுடெல்ல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6AC-534F-4B5D-BB2D-205E9DE0A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 </a:t>
            </a: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நண்பர்களின் நேர்மறை மற்றும் எதிர்மறை தாக்கங்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320" y="990720"/>
            <a:ext cx="8504280" cy="5867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பள்ளியிலும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ிலும் எப்பொழுதும் படித்துக்கொண்டு அவன் எப்பொழுதும் நல்ல மதிப்பெண்களைப் பெறுவா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வேற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பொழுதுபோக்கில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அவ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ன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க்கு நாட்டம் இல்ல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புதிய பள்ளியில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11-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ில் சேர்ந்து பயிலும்பொழுத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ஜாகீர் மற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ற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ம் மாயவன்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ஆகியோன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ாகின்றன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இருவ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ர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ம் கிரிக்கெட் விளையாட்டில் அதிக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ஆர்வம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உடையவர்கள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அவர்களோடு சேர்ந்து கிரிக்கெட் விளையாட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ம்போது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தன்னை சிறந்த சுழற்பந்து வீச்சாளராக அடையாளம் காண்கிற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ன்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பெற்றோ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அவன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அதிக நேரத்தை விளையாட்டில் செலவிடுவதால் அவனது படிப்பு பாதிக்கப்படுவதைக் கண்டு கவலைப்படுகின்றன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டம் ஜாகீர் மற்றும் மாயவன் ஆகியோர் நேர்மறையான ஆதிக்கம் செலுத்துவதாக நீங்கள் கருதுகிறீர்கள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ன் புதிய பழக்கத்தினால் பெற்றோர் கவலையுறுவது சரியென நினைக்கிறீர்கள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டின் பெற்றொருக்கு ஏற்பட்ட கவலையைக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குறைப்பதில் ஆசிரியரின் பங்களிப்பு என்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கிரிக்கெட்டைத் தொடர்ந்து விளையாடலாம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ஏ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CEB-7246-4381-8B2E-9AE822B88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066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ளர்ச்சி மற்றும் முன்னேற்றத்தில் ஏற்படும் மாற்றங்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320" y="1219320"/>
            <a:ext cx="850428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 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கியோர் பள்ளியில் இருந்து வீட்டிற்கு நடந்து செல்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ி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ெண் கு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ைக்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லி செய்கிறா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னின் உதட்டின் மேல் மீசை இல்லாதத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ேலி செய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ிரிக்கிற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“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னைப் பார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ஓர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ஆண்ம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து குரல் மற்றும் முகம் ஆடவரைப் போன்றுள்ள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முகத்தில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ீசை வளர ஆரம்பித்துள்ள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னால்தான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அப்பா என்னைச் சிங்கம் என்று  அழைப்பார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ற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ூறினான் திலிப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ுக்க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ிகுந்த மன வருத்தத்தை அளித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செல்ல மகன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று த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ன்னை அழைப்பதை நினைவு கூருகிற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ுக்குச் சென்றபிறகு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ன்னையிட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ன்று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ிடமிருந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ஏ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ேறுபடுகின்றே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க்கு ஏதாவது பிரச்சனைய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ட்க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முடிவு செய்கிறான் அழ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882-C4F3-423D-820F-FB545A84A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உடல் வெளித்தோற்றம் குறித்த பொதுவான கருத்துகள்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440" y="1371240"/>
            <a:ext cx="8504280" cy="5334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ு பயிலும் கலைச்செல்வி மற்றும் அ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ளுடைய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ள்ளி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ண்டு விழாவிற்க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ய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ரா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ணவர்கள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னைவர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ற்சாகத்துடன் காணப்படு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பாரம்பரிய நடனப் போட்டியில் பங்கேற்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வரது நண்பர்கள் அனிதா மற்றும் புவனா நாடகத்திலும் பங்கேற்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யிற்சியின்போ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மிகவும் கருப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ாக இருக்கிறாய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ேடையில் உன்னைப் பார்க்கவேண்டும் என்ற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ூடு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ான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ெளிச்சம் தேவைப்ப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 அனி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யைக் கேலி செய்த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ற்க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எந்தக் கருத்தையும் கூறவில்லை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வ்வாற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ல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ய்வ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ிற்க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ருத்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க இருந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6AB7-2BF1-4DA4-A547-3AD27D4A8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தொடர்ச்சி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320" y="838080"/>
            <a:ext cx="85042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யைப் பார்த்து 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சிறப்பாக நடனமாடுகிறாய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ன் மு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் பொலிவாக ஏதேன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ு பசையை ஏன் பயன்படுத்தவில்ல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குறைந்த அளவு முகப்பசையினைப் பயன்படுத்தின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ேடையில் எவ்வளவு அழகாய்ப் பொலிவுடன் தோன்றுவாய்  எனக் கற்பனை செய்ய முடிகிற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க் கூறின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சிரிப்புட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ன்றி 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மீது உள்ள அக்கறைக்கு மகிழ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னால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து முகமேனி தோற்றமே போதுமான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ஆசிரியரின் வழிக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ட்டுதலோட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நடனத்தை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ன்றாகப் பயிற்ச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ய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ருகிறே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முயற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னுடைய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ாழ்த்து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ள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ேர்ந்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ன்ன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ிறப்பாகச் செயல்பட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ைக்க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தவும் என்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ை நா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ுகிறேன்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E594-1E6A-49F8-8CDD-86276E872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 </a:t>
            </a:r>
            <a:br>
              <a:rPr sz="2800"/>
            </a:b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நட்பும் கொடுமையும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ன்பு மற்றும் முத்து ஆகியோர் பள்ள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க்கு அருகில்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உள்ள கடையில் ஒரு இசை குறுந்தக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 ஒன்றை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ாங்க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ப்பொழுது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வீட்டுக்குச் செல்வதை கவனிக்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ைப் பிடித்த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வைத்த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ணம் தருமாறு கொடுமைப் படுத்த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தற்கு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மறுக்கிற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ஏனெனில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9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ு சேர்ந்ததிலிருந்தே இருவரும் பல முறை பணம் வாங்கியும் திருப்பித் தரவில்ல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ணம் தர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மறுக்கிறா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ைக் கீழே விழும்வரைத் தள்ள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் பணத்தை பறித்துக்கொண்டு ஓடிவ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யினுடைய ஆசிரியர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ீடு திரும்புகையில் பாரி  விழுந்திருப்பதைக் காண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் எழுந்து நிற்பதற்கு உதவுகிறார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நிலைக்கான காரணத்தை ஆசிரியர்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லமுறை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கேட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ம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பதில்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கூறவில்ல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டுத்த நாள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நிகழ்வினைக் கண்ட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அவனது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குப்பறைத் தோழன் பிரபாகர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ன்பு மற்றும் முத்து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ற்றி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சிரியரிடம் புகார் அளிக்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ாரியிடம்  கூற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சிரியர் அறைக்குத் தானும் வருவதாக பிரபாகரன் கூற தயக்கத்துடன் இருந்த பாரி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ஆசிரியரிடம் புகார் அளிக்க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ஒப்புக் கொள்கிற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53F7-9FAC-4BE6-8B6A-B08B21534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761760"/>
            <a:ext cx="8229600" cy="5638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உடல் வளர்ச்சியின்போது  ஏற்படு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ள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யற்கையானவ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யல்பானவை மற்றும் ஆரோக்கியமானவை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ஆக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அனைத்து மாற்றங்களும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ஒரே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ா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ட்ட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த்தில் நிகழ்வதில்ல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ில சமய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ள்  நம் வாழ்க்க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யில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ஆதிக்கம் செலுத்துவதைய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ற்ற சமயங்களில் மாற்றங்களை  நாம் கட்டுப்படுத்தவ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செய்கிறோ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ில நேர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் த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்முடைய  தோற்ற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த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ிடமிருந்து வேறுபடுவதால் ஏற்படும் மன அழுத்தத்தை உணர்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நம்முடைய உடல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ளர்ச்சி குறித்த தவறான எண்ணங்கள் மற்றும் தீங்கு விளைவிக்கும் செயல்க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ள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ாணப்படுகின்ற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வ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து குறித்து விவாதிக்க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5753-A125-4AE1-B915-17F4B8F3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52280" y="695880"/>
            <a:ext cx="8763120" cy="5854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னைத்துக் குழந்தைகளும் ஒரே மாதிரியான வளர்ச்ச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டல் ரீத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னரீத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ல்லாதத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ர்களுக்கிடையே உடல் வளர்ச்சி தொடர்பான மூடநம்பிக்கைகள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ருத்துகளைத் தவறாகப் புரிந்துகொள்ளும் தன்மையையும் காண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ுதிர்பருவத்தினரிடமிருந்து குமரப்பருவத்தினர் அதிகமாகக் கற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ும் வகையில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த்தில் முன்மாதிர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திகழ்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ப்பனை மற்றும் அழகு நிலையங்களின் விளம்பரங்கள் குழந்தைகளுக்கிடையே தவறான எண்ணத்தையும் உடல் தோற்றத்திற்கு அதீத முக்கியத்துவம் தரச்செய்வதையும் காண முடிகிற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ணவர்கள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ங்களையோ மற்றவர்களையோ குறைவாக மதிப்ப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டாம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ம்முடைய எண்ணங்களையும் உணர்வுகளையும் தெளிவ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ை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ண்ணியமாகவும் வெளிப்படுத்த கற்றுக்கொள்ள 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569-EAB1-455A-B8E9-1FC3DB387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762120"/>
            <a:ext cx="8610480" cy="5790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க மாணவர்களின் உறவு முற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றை மற்றும் எதிர்மறை பரிணாமங்களைக் கொண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தாக அமைய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றை நட்பினைப் பராமரிக்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ன்னம்பிக்கை மற்றும் தன்முனைப்பு அவசியமாகிற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மரப்பருவத்தின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அவர்களின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ற்றோர்கள் மற்றும் ஆசிரியர்களுடன் அதிக நேரம் உரையாடுவதன் மூலம் ஒருவருக்கொருவர் புரிந்து கொள்ள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மற்றவரின் மீதுள்ள அக்கறையினைப் பாராட்டவும் செய்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உத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ரும்பாலான சூழல்களி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ி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ருடை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ணர்வுகளைப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போலித்தனமென நினைக்காமல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ஏற்றுக்கொள்ள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F888-30B3-4594-AF42-AC45E5FD8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Title 1"/>
          <p:cNvGrpSpPr/>
          <p:nvPr/>
        </p:nvGrpSpPr>
        <p:grpSpPr>
          <a:xfrm>
            <a:off x="317520" y="571680"/>
            <a:ext cx="8648640" cy="6083280"/>
            <a:chOff x="317520" y="571680"/>
            <a:chExt cx="8648640" cy="6083280"/>
          </a:xfrm>
        </p:grpSpPr>
        <p:pic>
          <p:nvPicPr>
            <p:cNvPr id="165" name="Title 1" descr=""/>
            <p:cNvPicPr/>
            <p:nvPr/>
          </p:nvPicPr>
          <p:blipFill>
            <a:blip r:embed="rId1"/>
            <a:stretch/>
          </p:blipFill>
          <p:spPr>
            <a:xfrm>
              <a:off x="317520" y="571680"/>
              <a:ext cx="8648640" cy="60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2"/>
            <p:cNvSpPr/>
            <p:nvPr/>
          </p:nvSpPr>
          <p:spPr>
            <a:xfrm>
              <a:off x="380880" y="609480"/>
              <a:ext cx="853452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a-IN" sz="6600" spc="-1" strike="noStrike">
                  <a:solidFill>
                    <a:srgbClr val="ffffff"/>
                  </a:solidFill>
                  <a:latin typeface="Arial"/>
                </a:rPr>
                <a:t>உட</a:t>
              </a: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ல்</a:t>
              </a:r>
              <a:r>
                <a:rPr b="1" lang="ta-IN" sz="6600" spc="-1" strike="noStrike">
                  <a:solidFill>
                    <a:srgbClr val="ffffff"/>
                  </a:solidFill>
                  <a:latin typeface="Arial"/>
                </a:rPr>
                <a:t> தகுதி</a:t>
              </a: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F5F-6736-4DC8-8EC0-BF01BE1B2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உட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ல்</a:t>
            </a:r>
            <a:r>
              <a:rPr b="1" lang="ta-IN" sz="4000" spc="-1" strike="noStrike">
                <a:solidFill>
                  <a:srgbClr val="ffffff"/>
                </a:solidFill>
                <a:latin typeface="Calibri"/>
                <a:ea typeface="Latha"/>
              </a:rPr>
              <a:t> தகுத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டலியல் முயற்சிகளின் மூலம் தன்னைச் சூழலுக்கேற்பத் தகவமைத்துக் கொள்ளும் பொதுவான திறனைப் பெற்றிருப்பதே 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தகுதி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Latha"/>
              </a:rPr>
              <a:t> 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ன்கிறோ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ஆரோக்கியமாக இருக்க வேண்டுமாயின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ேற்கொள்ளவேண்டி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Latha"/>
              </a:rPr>
              <a:t> உடலியல் செயல்பாடு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ிளையாட்டுகளில் ஈடுபடுவ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 பயிற்சி செய்வத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ஆராக்கியமான உணவ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ுகாதாரமான பழக்க வழக்கங்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ள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F0F-128B-46E0-9B5F-EE520994A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19320"/>
            <a:ext cx="8458200" cy="5333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ுகாதாரம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 என்பது நோயின்றி இருத்தல்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ன்ப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ட்டு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்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ிய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ூகவிய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னவெழுச்சி மற்றும் ஆன்மீக நல்வாழ்வு ஆகியவற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றைய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நலவாழ்வ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பது நமது முழுமையான நலத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ார்ந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ு நோய்களில் இருந்தும் காயங்களிலிருந்தும் விடுபட்ட நிலையைக் குறிப்பதாக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வளர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தகு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மான உணவை உண்ணும் பழக்கம் ஆகியவற்றின் மீதான விழிப்புணர்வ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நலத் தேவ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ின் அவசியத்தைப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ுரிந்துகொள்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து உடல் நலவாழ்வாகும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சமூக நலவாழ்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என்ப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றருடன்  உரையாடும் திற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ுவாகப் பணியாற்றும்  திறன் மற்றும் தன் உறவுமுறைகளோடு இணக்கமாக வாழ உதவும் திறன் ஆகியவற்றை 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F68-0440-4CEB-93B0-20A1BD7F8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யின் உட்கூறுகள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280" y="1143000"/>
            <a:ext cx="86536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பலம்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ஒரு செயலை மேற்கொள்ள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அல்ல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தடைக்கு எதிராக செயல்பட தசைக்கு உள்ள திறனே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பலம்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Latha"/>
              </a:rPr>
              <a:t> எனப்படுகிற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வேகம்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ிட்ட நேரத்தில் இயக்கத்தில் ஏற்படும் மாறுபாட்டால் வேகம் அளவிடப்படுகிற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எடுத்துக்காட்டாக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ிட்ட தொலைவைக் குறைந்த அளவு நேரத்தில் கடக்கும் மாணவனின் திறன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சமதளத்தி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முத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0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மீட்டர் வரையிலான தொலைவைக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டக்கச் செய்த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தாங்கும் சக்தி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ளைப்பின் மத்தியிலும் நெடுநேரமாக இயக்கத்தை ஏற்படுத்தும் திறனே தாங்கும் சக்தி எனப்படும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11B1-0134-4C9C-9A0A-3D90AFF2F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யின் உட்கூறுகள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280" y="1066680"/>
            <a:ext cx="86536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ெகிழ்வுத் தன்ம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ிகபடியான வளையும் தன்மை கொண்ட அசைவை மேற்கொள்ளும் திறனை நெகிழ்வுத் தன்மை என்கிறோ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்கார்ந்து தொடு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it and reach test)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ற செயல்பாட்டின் மூலம் நெகிழ்வுத் தன்மையை அதிகரிக்க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ுரிதத்தன்ம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ேகமான இயக்கங்கள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ளை ஏற்படும் திற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ண்டாக்கும் திறனே துரிதத்தன்மை எனப்ப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ின் துரிதத்தன்மையைச் சோதிக்க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x10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ீட்டர் தொலைவு ஓடிச் சென்று திரும்பும் போட்டி நடத்த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ின் துரிதத்தன்மையைச் சோதிக்க மட்டுமின்ற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னை மேம்படுத்தவும் இப்போட்டியினைப் பயன்படுத்த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798-99C5-45ED-890A-59617769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523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க்கான செயல்பாடுகள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1C41-D36B-48B0-8FA5-DDE3E88E4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80880" y="-45360"/>
            <a:ext cx="8534520" cy="6951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குப்பறையின் உள்ளே மேற்கொள்ளும் செயல்பாடுகள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மேஜையின் மேலே ஏற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ங்கள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செய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ஆட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எகிறி குதி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குப்பறையின் வெளியே  மேற்கொள்ளும் செயல்பாடுகள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ஏணியில் ஏற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நேர் கோட்டில் நட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பல்வேறு பொருள்களின் மேல் ஏறி குதி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தடைகளைத் தாண்டி ஓட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B647-D956-43FB-A962-5003D7CE2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சரியான உடற்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ோரண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யை வளர்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ன தோரணையில் அமரும் நிலை அமர்தல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ாதங்கள் இரண்டும் சரியான இடைவெளியில் தரையில் படிந்திருத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ாற்காலியில் அமரும்போது முதுகுப் பகுதி நேராக படத்தில் உள்ளதுபோல் இருக்க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Screen Clipping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3733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8482-9C80-49FA-9E3E-7434A2E2A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Image result for images of good walking posture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2438280" y="177840"/>
            <a:ext cx="480060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நிற்றல் நில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826-AE75-4547-AA5E-DDFC8CF6D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010120" cy="1780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5000760" cy="1762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6419880" cy="2276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4952880" y="5335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விளையாட்டுப் போட்டிகள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49C-D128-4916-8AA1-5DE00D5C4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8229600" cy="2438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முழுமையான ஆரோக்கியத்திற்கு யோகாசன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E56-3389-4473-A7EA-6F2D6014E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பொதுவான யோகா பயிற்சிகள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294920"/>
            <a:ext cx="84582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ம் 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ி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சன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ரணா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ரத்திகார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ுத்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ுத்திர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ாந்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ாரனம் மற்றும் தியானம் போன்ற பயிற்சிகளை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ொள்கை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கிம்சை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himsa), Sat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ண்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Aste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ண்ணாநோன்ப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Brahmchar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ிருடா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arigraha (non-collectivenes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ி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ொள்கை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hauch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ூய்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cleanliness); Santosh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ன்னிறை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Tapa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ளி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Swadhya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நல்ல இலக்கியக்களைப் ப்டித்தல் மற்றும் தான் என்பதை உணர்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hwarpranidhan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டவுளை அடை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ஞான அறி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yas -Neti, Dhauti, Basti, Trataka, Nauli and Kapalabha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E2D6-EB85-4395-BA66-9C5617BCF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990720" y="417600"/>
            <a:ext cx="2712960" cy="2108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853160" y="228600"/>
            <a:ext cx="3450960" cy="205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3301920" cy="184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rcRect l="50332" t="43356" r="29232" b="22087"/>
          <a:stretch/>
        </p:blipFill>
        <p:spPr>
          <a:xfrm>
            <a:off x="2935440" y="4648320"/>
            <a:ext cx="3187440" cy="1801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5"/>
          <a:stretch/>
        </p:blipFill>
        <p:spPr>
          <a:xfrm>
            <a:off x="6019920" y="2590920"/>
            <a:ext cx="1380960" cy="292392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9097-4DD1-4E87-8CC9-180D8CA56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னவெழுச்சி நலவாழ்வ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இயல்பாக இருப்பதற்கான மனவெழுச்சியினைக் கட்டுப்படுத்த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ேலாண்மை செய்யவும் உதவுகின்ற  திறனைக் கொண்ட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பர் தமது உணர்வுகளைச் சரியாக வெளிப்படுத்துகிறார் எனில் அவர் நல்ல மனவெழுச்சி கொண்டவராக இருக்கிறார் 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ன்பதை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றிய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ன நலம் மற்றும் நலவாழ்வ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மக்குள் உள்ள திறன்களை உணர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ாழ்வின் இயல்பான அழுத்தத்தோடு செயல்பட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பணியினை முழுமையாகச் செய்யவும் மற்றும்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ான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ார்ந்த சமூகத்திற்குச் பங்களிப்பை வழங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் நல்வாழ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வ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தாகும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லக சுகாதார அமைப்ப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HO)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09DB-3AA3-43CD-80E6-C5476B29B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யோகா பயிற்சி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ிராணய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மம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அனுலோமாவிலோம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கிரிய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கபாலபாத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அக்னிசார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800080" cy="28195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F80-9ECD-4494-BCEF-B8D92C7F3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யோகாசன பயிற்சிகளுக்கான பொது வழிமுறை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ரும்பாலான ஆசனங்க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ிரணாயாமங்கள் மற்றும் கிரியைகளை வெறும் வயிற்றுடனோ அல்லது மிகக்குறைந்த அளவிலான உணவுடனோ செய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ம் செய்வதற்கு அதிகாலை நேரம் ஏற்றதாக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ருப்பினும் மதிய உணவு உண்டு மூன்று மணி நேரங்களுக்குப் பிறகு மாலையில் வெறும் வயிற்றில் யோகாசனம் செய்யலாம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ப் பயிற்சிகளை அவசரமாகவோ அல்லது மிகவும் சோர்வுடன் இருக்கும்போதோ செய்தல் கூடா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9A17-1B63-4005-9D47-18B273EDB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யோகாசன பயிற்சிகளுக்கான பொது வழிமுறை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நல்ல காற்றோட்டமான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சுத்தமான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இடையூறின்றி உள்ள இடங்களை யோகாசன பயிற்சிகள் செய்வதற்குத் தேர்வு செய்யவேண்ட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பாய் அல்லது விரிப்பு விரித்து அதன்மீது யோகாசனப் பயிற்சிகளை செய்யவேண்ட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குளித்துவிட்டு யோகாசன பயிற்சிகளை மேற்கொள்வது சிறந்ததாக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86DF-6798-4EBA-AA87-52269C714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" y="2057400"/>
            <a:ext cx="8229600" cy="2209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 பழக்கமும் சுகாதாரமும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727-CC2C-4183-9F7F-588CB7EBA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பழக்கம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600200"/>
            <a:ext cx="8534160" cy="5105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ெதுவாக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க மென்றும் சாப்பிட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ாப்பிடும்பொழு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ொலைக்காட்சி பார்ப்பதைய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ாசிப்பதையும் தவி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ேவையான அளவு எல்லாச் சத்துகளும் நிறைந்த சரிவிகித உணவை உண்ண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ன இடைவெளியில் சரியான அளவில் உண்ண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ணவைத் தவிர்ப்பது அல்லது அதிக அளவில் உண்ணுவத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வி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ேவையான அளவு நீர் பருக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8-10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டம்ள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6CE-A7B5-46B9-B17D-895C32EA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பழக்க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ழிவறையைப் பயன்படுத்திய பின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ைகளைச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ோப்பு போட்டு கழுவ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ைக்கு இரு வேளை பல் துலக்க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ினமும் நீராட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ளித்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ல் நகங்களை வெட்டு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ுகம் கழுவும்போது கண்களைய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கழுவ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துகளைச் சுத்தமாக வைத்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ர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ும்போது   வாயின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ளால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ிக்கொண்டு இரும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ும்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ோது முகத்தையோ அல்லது வாயையோ சுத்தமான துணியா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ிக்கொண்டு தும்ம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CC5-1A5E-48FA-9C97-0E59E8DDE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மனவெழுச்சி நலம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600200"/>
          <a:ext cx="8382240" cy="4572000"/>
        </p:xfrm>
        <a:graphic>
          <a:graphicData uri="http://schemas.openxmlformats.org/drawingml/2006/table">
            <a:tbl>
              <a:tblPr/>
              <a:tblGrid>
                <a:gridCol w="1825920"/>
                <a:gridCol w="2441520"/>
                <a:gridCol w="1828800"/>
                <a:gridCol w="2286000"/>
              </a:tblGrid>
              <a:tr h="5763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2800" spc="-1" strike="noStrike">
                          <a:solidFill>
                            <a:srgbClr val="ffffff"/>
                          </a:solidFill>
                          <a:latin typeface="Calibri"/>
                          <a:cs typeface="Latha"/>
                        </a:rPr>
                        <a:t>மனவெழுச்சி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கள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கிழ்ச்ச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ெட்க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ஆச்சரிய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அச்ச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ோப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கிழ்ச்ச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ருத்த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ிகி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ிருப்த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னவருத்தத்தை ஏற்படுத்துத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ப்ப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நம்பிக்க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அன்ப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ொறாம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ிரக்த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ற்ற உணர்வ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உற்சாக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வல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எரிச்ச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ிறு பிள்ளைத்தன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ஏமாற்ற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ெரும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தற்ற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ங்கடப்படுத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E6A-6A0F-4918-B5C1-F2BF34B88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வலியுறுத்தப்படவேண்டிய முக்கிய கருத்து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600200"/>
            <a:ext cx="8610480" cy="4952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கோப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சூடாவ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வியர்வை அல்லது தலைவலி வரு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மகிழ்தல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புத்துணர்வுடன் உடம்பு இலகுவாக இருப்ப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உற்சாக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இதயம் வேகமாகத் துடிப்ப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பயம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வியர்க்க ஆரம்பிக்கு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தோலில் மீதுள்ள மயிர் கூச்சத்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வருத்தம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பற்றற்ற தன்மைய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ADA-EDF8-4E8C-B6C9-1467D458F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 உள்ளார்ந்த வலி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நான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  ‘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னிடம் உள்ள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ை’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 ‘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னால் முடியும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hp1\Desktop\11.png"/>
          <p:cNvPicPr/>
          <p:nvPr/>
        </p:nvPicPr>
        <p:blipFill>
          <a:blip r:embed="rId2"/>
          <a:stretch/>
        </p:blipFill>
        <p:spPr>
          <a:xfrm>
            <a:off x="304920" y="14479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B46-A258-4C71-920A-5836A719F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tle 1"/>
          <p:cNvSpPr/>
          <p:nvPr/>
        </p:nvSpPr>
        <p:spPr>
          <a:xfrm>
            <a:off x="304920" y="0"/>
            <a:ext cx="8534160" cy="1066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வெவ்வேறு சூழல்களில்  ஒருவர் எவ்வாறு நடந்துகொள்வார் என்பதை பங்கேற்று  </a:t>
            </a: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நடித்தல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304920" y="1066680"/>
            <a:ext cx="8534160" cy="5639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கண்டிப்பான வகுப்பு ஆசிரியர் ஒருவரிடம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சகமாணவி தவறான புகாரை அளிக்கிறாள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ில் ஒரு பிரச்சனை நிகழும்போது உன் நெருங்கிய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 உன்ன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ார்க்க வருகிறார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னால் குறிப்பிட்ட ஒரு பாடத்தில் சிறப்பாகச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செயல்பட முடியவில்ல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84040"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 தந்தை காரணமின்றி உன்னைக் கடிந்து கொள்கிறார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ள்ளிகளுக்கு இடையே நடைபெறும் விளையாட்ட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ோட்டியில் உனது குழுவானது வெற்றி பெற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ிறத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BF6-3D49-4270-BC3F-F9EEA40FF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142640"/>
            <a:ext cx="850428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யென்பது பய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ற்ற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வமான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தவியற்ற தன்ம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ந்தே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ுயகுழப்ப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னிம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ோகம் மற்றும் கோபம் ஆகியவற்றைக் கொண்டதாக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ந்நில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மன அழுத்தத்தை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சவால்களை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ந்திக்கும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ஒருவ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ாமே தீர்வு கண்டு தொடர்ந்து நேர்மறையாகச்  செயல்படுவதாகவும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ல்லது  பி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ருடை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தவியை நாடுவதாகவும் அமைகிற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 உணர்வு உடையோரிடம் செயல்பாடுகளில் சரிவ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யற்க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்கு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ீறிய சுறுசுறுப்ப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ோப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வறான நடத்தை போன்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வற்ற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ண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FB43-B3DC-4D90-A985-94AC87B0B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ெவ்வேறு சூழலில் ஒருவர்  எவ்வாறு நடந்து கொள்ள வேண்டும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ெவ்வேறான சூழல்களில் நேர்மறையான உணர்வுகளிலிருந்து எதிர் மறையான உணர்வுகள்வரை நாம் அனுபவிக்கின்றோ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டுத்துக்காட்டா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கிழ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ருப்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ோக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் போன்றவ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ம்மைச் சுற்றியுள்ளவர்களால் மேலும் நம் உணர்வுகள் வலுப்படுகின்ற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வ்வகையான உணர்வுகளை வெளிப்படுத்துவது அவசியமாகிற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னால் அவை நேர்மறை அல்லது எதிர்மறையான உணர்வுகளாக அமைகின்ற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ுத்தம் மற்றும் கோபம் ஆகியவை மிக முக்கியமான மனவெழுச்சிகள் என்பதை நாம் அடையாளம் காண்பத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ாளிக்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ட்டுப்படுத்தவும் மற்றும் குறைக்கவும் முடி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7E4-B616-4EE5-90A4-5D6213874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வெவ்வேறு சூழலில் ஒருவர்  எவ்வாறு நடந்து கொள்ள வேண்டும்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2280" y="1066320"/>
            <a:ext cx="8686800" cy="5715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ுத்தம் மற்றும் கோபம் ஆகியவை மிக முக்கியமான மனவெழுச்சிகள் என்பதை நாம் அடையாளம் காண்பத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ாளிக்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ட்டுப்படுத்தவும் மற்றும் குறைக்கவும் முடி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மற்றவர்கள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ம்மை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ப்பிடுவதைக் காட்டிலும் தம்மைத்தாமே  ஒப்பிடுவது பயனுள்ளத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மானதாகவும் அமை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து அவரின் செயல்பாடுகளை அல்லது நடத்தைகளை தொடர்ந்து முன்னேற்ற வழி வகுக்க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ிகவும் சவால் தரும் மனவெழுச்சி சூழல்களின்போ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ச்சூழல்களில் சிறப்பாகச் கையாண்டதை ஒரு விவாதமாக்க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ரும்பலகையில் பட்டியலிடவும்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7AB0-AA2C-46D4-811E-5402A8A5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இசையைக் கேட்ட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ாக இருக்கும்போது ஆழ்ந்த மூச்சு பயிற்சி மேற்கொள்ள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கோபமாக இருக்கும்போது விளையாடுதல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படிக்கட்டில் ஏறி இறங்க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தியானம் அல்லது வழிபட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நிகழ்விடத்தை விட்டு வெளியேற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நிகழ்வில் நேரடியாக பங்கேற்காத நம்பிக்கையுள்ள நபரிடம் உங்கள் உணர்வுகள் குறித்துப் பேச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சவால் தரும் மனவெழுச்சி சூழ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லில் சாமாளிக்கும் சில வழிமுறை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0E3C-9935-469E-9FE8-6EC583CFE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to  favourite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or do some physical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எனக்குப் பிடித்த பாடலைக் கேட்ட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வேலை அல்லது உடற்பயிற்சிகளைச் செய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என்னிடத்தில் கோபமாக உள்ள நபருக்கு கடிதம் எழுதிக் கிழி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நகைச்சுவை திரைப்படங்கள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ார்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விரும்புகின்ற பொழுதுபோக்கில் நேரத்தைச் செலவிட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ுதி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தான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ஒன்றைப்பெற முயற்சி செய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ிறர்க்கு உதவு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சவால் தரும் மனவெழுச்சி சூழ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லில் சாமாளிக்கும் சில வழிமுறை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000A-3BDB-49B6-8524-2496B423C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பள்ளிக்குள்ளும் பள்ளிக்கு வெளியேயும் குழந்தைகளின் </a:t>
            </a: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பாதுகாப்ப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8E5-0263-48A5-8B0B-39211AB02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457200"/>
            <a:ext cx="8686800" cy="6324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விதிகள் மற்றும் குறியீடுகளைத் தெரிந்து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ொள்ளுதல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ின்ற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யின் இருபுறங்களையும் கவனித்த பிறகு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யைக் கட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ஒலிப்பான்களை உற்றுக் கவனி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களில் ஓடாமல் இருத்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டக்கும்போது நடைபாதையைப் பயன்படுத்து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வாகனங்களில் செல்லும்போது க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ால்களை வெளியே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ீட்டாமல் இரு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 வளைவுகளில் சாலையைக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டக்காமலிருத்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சாலை  பாதுகாப்பில்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குழந்தைகள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390-890B-4A70-8E05-5944B1373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57680" cy="6324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3048120" y="0"/>
            <a:ext cx="5715000" cy="647712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0E9F-247B-4645-B86C-CFE72AC45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t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மற்றும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வன்கொடுமை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496-060E-4BE3-871F-843E5D760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096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மற்றும் வ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ன்கொடு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1320" y="1143000"/>
            <a:ext cx="8504280" cy="5486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எந்த ஒரு செயலும் மற்றவரை உடல் ரீதியாகவோ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மனரீதியாகவோ நேரடியாக பாதித்தால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அதை வன்முற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வன்கொடுமை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எனலாம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வன்கொடும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சாத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மதம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கல்வித் தகுத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கிராமம் நகர்புறம் ஆகியவற்றைக் கடந்தும் அனைவருக்கும் நிகழும் நிகழ்வாக உள்ளத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ஆண் மற்றும் பெண் என இருபாலரும் பாலியல் ரீதியான துன்புறுத்தலுக்கு ஆளாகிறார்கள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4BB6-3E78-4466-BB24-2F5E77F63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குழந்தை வன்கொடுமை – ஆய்வு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, MoWCD 200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ன் பட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ந்தியாவில் தற்போது தேசிய அளவில் நடைபெற்ற கணக்கெடுப்ப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ாநிலங்களிலிருந்து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,44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ுழந்தைகள் பங்கேற்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தில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%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ுழந்தைகள் ஏதோ ஒரு வகையில் பாலியல்ரீதியான துன்புறுத்தலுக்கு ஆளாக்கப்பட்டுள்ளதாக புகார் தெரிவித்துள்ள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தில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3 %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பேர் ஆண் குழந்தை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வர்கள் பெரும்பாலான சமய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உறவினர்கள் அல்லது குடும்ப நண்பர்கள் அல்லது அதிகார வர்க்கத்தினர் ஆகியோரால்  பாதிப்பிற்கு உள்ளாகியுள்ளனர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வர்கள் அந்த நிகழ்வை வெளிப்படுத்த முடியாதவராகவும் உள்ள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டிக்கடி பாலியல் துன்புறுத்தல்கள் மற்றும் வன்கொடுமைகள் நடைப்பெற்றால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து தனக்கு இழுக்கு எனக் கருத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வர்கள் புகார்கள் கொடுப்பதில்ல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FB7-EA59-46C6-AACF-61216E692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உடல் ஆரோக்கியம் மற்றும் </a:t>
            </a: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வளர்ச்சி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நிமிடங்கள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9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7339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43434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04920" y="3809880"/>
          <a:ext cx="8610480" cy="2394000"/>
        </p:xfrm>
        <a:graphic>
          <a:graphicData uri="http://schemas.openxmlformats.org/drawingml/2006/table">
            <a:tbl>
              <a:tblPr/>
              <a:tblGrid>
                <a:gridCol w="1722240"/>
                <a:gridCol w="1720800"/>
                <a:gridCol w="1901880"/>
                <a:gridCol w="1187640"/>
                <a:gridCol w="2077920"/>
              </a:tblGrid>
              <a:tr h="44784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ாழ்வின் வெவ்வேறு நிலைகளில் ஏற்படும் மாற்றங்கள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விப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ந்தைப் 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மரப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ருவம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ிர் பருவம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ுமைப் 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FE6-79DF-4EB6-9E93-017E9EE0C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alibri"/>
                <a:cs typeface="Latha"/>
              </a:rPr>
              <a:t>பாலியல் குற்றங்களிலிருந்து குழந்தைகளைப் பாதுகாக்கும் சட்டம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POCSO) Act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E3B-C56B-4013-AC66-328A64C20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மற்றும் வ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ன்கொடு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ன்முறையில் பாதிக்கப்படும்போது மற்றவரிடம் உதவிக்கோர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ன்முறையின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பிறரிடம் கூறாமல் இருப்பது அல்லது அமைதியாக இருப்பது என்பது மோசமான சூழலுக்கு வழிவகுக்க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மாதிரியான சூழல்களில் உதவும் பொருட்டு வெவ்வேறு நப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ேவை அமைப்புகள் மற்றும் நிறுவனங்கள் உள்ள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த்தகைய வன்முறைச் சூழலை ஒருங்கிணைந்து எதிர்க்க வேண்டியது மிக அவசியமாகிற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ுடியா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்று உறுதிபடக் கூற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ூற கடினமாக இருப்பின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ுடியா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்பதை யோசிக்க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ாய்ப்பிருப்பின் பிரச்சினைக்குரிய நபரிடமிருந்து விலகி இருத்தல்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க்கள் வட்ட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உள்ள பாதுகாப்பான இடத்திற்குச் சென்றிடவேண்டும் அல்லது இணையத்தின் வழியே துன்புறுத்தல் இருப்பின் இணையத்திலிருந்து வெளியேற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4610-EB4B-4554-857E-E2241E71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117000"/>
            <a:ext cx="9144000" cy="75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தன் குழந்தை படிப்பதற்குத் தந்தை உதவ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குழந்தை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ன் வீட்டுப்பாடத்தில் பிழை செய்யும்போத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ஆசிரியர்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அக்குழந்தையை ‘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முட்டா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என அழைக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விளையாடும்போது பெரிய பையன் சிறியவனைத் தள்ளுகிறான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தாவிற்குக் குட்டையான முடி இருப்பதை அவளது வகுப்புத் தோழி கேலி செய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ாய்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ன் மகள் தயாராக உதவ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மாணவியர்களைப் பார்த்து மாணவர்கள் விசிலட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க்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புத்தகம் கிழிந்ததால் சோனுவை அவன் அம்மா அடிக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குழந்தை தனது அண்டை வீட்டார் ஒருவர் தொடுவதை விரும்பவில்ல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ஜா பெண்களைக் கேலி செய்ததால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அவன் நண்பர்கள் அவனைக் கேலி செய்கின்றார்கள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கற்பிப்பவர் ஜேம்சை தகாத இடங்களில் தொட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பர்ட்டும் மீனாவும் க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கோ விளையாடு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600" spc="-1" strike="noStrike">
                <a:solidFill>
                  <a:srgbClr val="ffffff"/>
                </a:solidFill>
                <a:latin typeface="Calibri"/>
                <a:cs typeface="Latha"/>
              </a:rPr>
              <a:t>செயல்பாடு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ta-IN" sz="2600" spc="-1" strike="noStrike">
                <a:solidFill>
                  <a:srgbClr val="ffffff"/>
                </a:solidFill>
                <a:latin typeface="Calibri"/>
                <a:cs typeface="Latha"/>
              </a:rPr>
              <a:t>வினாடி வினா நடத்துதல்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வன்முறை எனத் தெரிந்தால் ஆம் அல்லது  இல்லை எனத் கூறுக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3337-D250-4FF1-8FC5-7D9D96F87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7488-4AE8-41F6-B544-624230A0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இணையம்</a:t>
            </a: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கேஜெட் மற்றும் ஊடகத்தைப் பாதுகாப்பாகப் பயன்படுத்துதல்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0A4C-4545-4065-B1DA-FEFAE2E3E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1066680"/>
          <a:ext cx="8686800" cy="506736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2298960"/>
                <a:gridCol w="303516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ேரம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செயல்பாட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ஊடகம் அவ்வேளைகளில்  பயன்படுத்தும் பொருட்கள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ஊடகம்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/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ற்றும் உபகரணங்களில் செலவிடும் நேரம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/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அதற்கான காரணம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00 - 7.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காலையில் எழுந்து தயாராதல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செய்தித்தாள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.00 - 7.3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காலை சிற்றுண்டிக்குப்   பின் பள்ளிக்குச் செல்லுதல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வானொல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ாடல் கேட்டல்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(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நிமிடங்கள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itle 1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ffffff"/>
                </a:solidFill>
                <a:latin typeface="Calibri"/>
                <a:cs typeface="Latha"/>
              </a:rPr>
              <a:t>செயல்பாடு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: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நேர் மற்றும் எதிர் மறையான தகவல்களைப் பிரித்தறி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E287-9303-433C-B063-66EE6190B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788688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ாழ்வியல் திறன்கள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17440" y="380880"/>
          <a:ext cx="8774280" cy="6309000"/>
        </p:xfrm>
        <a:graphic>
          <a:graphicData uri="http://schemas.openxmlformats.org/drawingml/2006/table">
            <a:tbl>
              <a:tblPr/>
              <a:tblGrid>
                <a:gridCol w="2257560"/>
                <a:gridCol w="6516720"/>
              </a:tblGrid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cs typeface="Calibri"/>
                        </a:rPr>
                        <a:t>சுயவிழிப்புணர்வ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இது தன்னையறி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் குணங்கள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லம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ன்னேற்றமான பகுதிகள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ன்னுரி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ம்பிக்கை ம்ற்றும் விழுமியங்கள் ஆகியவை உள்ளடக்கிய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ரச்சினையைத் தீர்த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 பிரச்சினையை தீர்க்கவும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சமாளிக்கவும் உதவும் திறன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ீர்க்க இயலாதவைகள்  நம் பல்ம் ம்ற்றும் அழுத்த்தை அறிய உதவுகின்ற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டிவெடு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இருக்கும் வாய்ப்புகள் குறித்து மதிப்பிட்ட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ஆக்கபூர்வமான முடிவைப் பெறுதல் மற்றும் உகந்தவாறு செயல்படுத்து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சூழலுக்கேற்றவாறு சிந்தி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ல்வேறு வகையில் விவரங்களைப் பகுத்தாராயவும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அதே நோக்கத்தோடு மதிப்பிடம் திறன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டை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ுரித தன்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ெகிழ்வுத் தன்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உண்மைத் தன்மை ம்ற்றும் விரிவுபடுத்துதல் ஆகியவற்றின் மூலம் புதிய வழியில் பார்த்தல் ம்ற்றும் செயல்பட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றரின் நிலையிலிருந்து பார்த்தல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mpat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றரின் வாழ்க்கையினைப் புரிந்துக் கொள்வதோட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அவரின் நிலையிலிருந்துப் பார்த்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னவெழுச்சியை மேலாண்மை செய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வர்  தன் மற்றும் பிறரின் மனவெழுச்சிகளை உணர்ந்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து நடத்தையை  வழிநடத்து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ேலும் இது மனதினை மேம்படுத்தும் மனவெழுச்சிகளை மேலாண்மைச் செய்ய உதவும் திறன்களைக் கொண்ட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் சார்ந்த திறன்களும் பரிமாறிக் கொள்ளும் திறன்களும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terpersonal Skills And Effective Communic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வர் தான் சார்ந்தவரோடு நேர்மறையாக  சுமூகமாக இருத்தல் ம்ற்றும் ஒருவர் தன்னை வெவ்வேறு சூழலுக்கு உகந்தவாறு சொற்சார்ந்த ம்ற்றும் சொற்சாரா வகைகளில் கருத்துகளை வெளிப்படுத்தும் திற்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E624-46EC-4B1E-8B08-F3B4A86D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வாழ்வியல் திறன்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மாணவர்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ஆசிரியர்கள்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Diagram 9" descr=""/>
          <p:cNvPicPr/>
          <p:nvPr/>
        </p:nvPicPr>
        <p:blipFill>
          <a:blip r:embed="rId1"/>
          <a:stretch/>
        </p:blipFill>
        <p:spPr>
          <a:xfrm>
            <a:off x="1676520" y="939960"/>
            <a:ext cx="6095880" cy="269208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11" descr=""/>
          <p:cNvPicPr/>
          <p:nvPr/>
        </p:nvPicPr>
        <p:blipFill>
          <a:blip r:embed="rId2"/>
          <a:stretch/>
        </p:blipFill>
        <p:spPr>
          <a:xfrm>
            <a:off x="1676520" y="3987720"/>
            <a:ext cx="6476760" cy="266724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E986-58BA-49EC-869E-7257B5DF5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செயல்பாடு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னா பெட்ட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பங்கேற்று நடி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குழு விவாத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கலந்துரையாட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னாடி வின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தனியாள் ஆய்வ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ழுமியங்களில் தெளிவு பெற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169-B4E1-4D92-849E-5220E6150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328680" y="500040"/>
            <a:ext cx="8643960" cy="582156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C401-B9BF-426D-B6B9-24808829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155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இந்தியாவில் குழந்தைகளின் சுகாதாரம் குறித்தான விளக்கப் படம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979640" y="1295280"/>
            <a:ext cx="1297080" cy="3419640"/>
            <a:chOff x="1979640" y="1295280"/>
            <a:chExt cx="1297080" cy="3419640"/>
          </a:xfrm>
        </p:grpSpPr>
        <p:sp>
          <p:nvSpPr>
            <p:cNvPr id="72" name="Right Arrow 57"/>
            <p:cNvSpPr/>
            <p:nvPr/>
          </p:nvSpPr>
          <p:spPr>
            <a:xfrm rot="5400000">
              <a:off x="1968480" y="3560400"/>
              <a:ext cx="1165320" cy="1143360"/>
            </a:xfrm>
            <a:prstGeom prst="rightArrow">
              <a:avLst>
                <a:gd name="adj1" fmla="val 50000"/>
                <a:gd name="adj2" fmla="val 50960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58"/>
            <p:cNvGrpSpPr/>
            <p:nvPr/>
          </p:nvGrpSpPr>
          <p:grpSpPr>
            <a:xfrm>
              <a:off x="1981080" y="1295280"/>
              <a:ext cx="1295640" cy="1508400"/>
              <a:chOff x="1981080" y="1295280"/>
              <a:chExt cx="1295640" cy="1508400"/>
            </a:xfrm>
          </p:grpSpPr>
          <p:sp>
            <p:nvSpPr>
              <p:cNvPr id="74" name="TextBox 61"/>
              <p:cNvSpPr/>
              <p:nvPr/>
            </p:nvSpPr>
            <p:spPr>
              <a:xfrm>
                <a:off x="1981080" y="1523880"/>
                <a:ext cx="124200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d0d0d"/>
                    </a:solidFill>
                    <a:latin typeface="Calibri"/>
                  </a:rPr>
                  <a:t> </a:t>
                </a: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பெண்கள் இரத்த சோகையால் பாதிப்ப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62"/>
              <p:cNvSpPr/>
              <p:nvPr/>
            </p:nvSpPr>
            <p:spPr>
              <a:xfrm>
                <a:off x="2209680" y="1295280"/>
                <a:ext cx="106704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54%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59" descr=""/>
            <p:cNvPicPr/>
            <p:nvPr/>
          </p:nvPicPr>
          <p:blipFill>
            <a:blip r:embed="rId1"/>
            <a:stretch/>
          </p:blipFill>
          <p:spPr>
            <a:xfrm>
              <a:off x="2393640" y="2846520"/>
              <a:ext cx="297000" cy="7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Box 105"/>
          <p:cNvSpPr/>
          <p:nvPr/>
        </p:nvSpPr>
        <p:spPr>
          <a:xfrm>
            <a:off x="36360" y="6413400"/>
            <a:ext cx="65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</a:rPr>
              <a:t>Source: WHO 2008; WHO 2009; WHO 2011, NFHS4, NCRB 2015, GATS 2016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2"/>
          <p:cNvGrpSpPr/>
          <p:nvPr/>
        </p:nvGrpSpPr>
        <p:grpSpPr>
          <a:xfrm>
            <a:off x="0" y="1295280"/>
            <a:ext cx="3352680" cy="4642560"/>
            <a:chOff x="0" y="1295280"/>
            <a:chExt cx="3352680" cy="4642560"/>
          </a:xfrm>
        </p:grpSpPr>
        <p:sp>
          <p:nvSpPr>
            <p:cNvPr id="79" name="Right Arrow 53"/>
            <p:cNvSpPr/>
            <p:nvPr/>
          </p:nvSpPr>
          <p:spPr>
            <a:xfrm rot="5400000">
              <a:off x="91800" y="3234600"/>
              <a:ext cx="1265400" cy="1143000"/>
            </a:xfrm>
            <a:prstGeom prst="rightArrow">
              <a:avLst>
                <a:gd name="adj1" fmla="val 50000"/>
                <a:gd name="adj2" fmla="val 55354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54"/>
            <p:cNvGrpSpPr/>
            <p:nvPr/>
          </p:nvGrpSpPr>
          <p:grpSpPr>
            <a:xfrm>
              <a:off x="75960" y="1295280"/>
              <a:ext cx="1569960" cy="981000"/>
              <a:chOff x="75960" y="1295280"/>
              <a:chExt cx="1569960" cy="981000"/>
            </a:xfrm>
          </p:grpSpPr>
          <p:sp>
            <p:nvSpPr>
              <p:cNvPr id="81" name="TextBox 63"/>
              <p:cNvSpPr/>
              <p:nvPr/>
            </p:nvSpPr>
            <p:spPr>
              <a:xfrm>
                <a:off x="75960" y="1634760"/>
                <a:ext cx="1569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மனநல குறைபாடு உடையோர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66"/>
              <p:cNvSpPr/>
              <p:nvPr/>
            </p:nvSpPr>
            <p:spPr>
              <a:xfrm>
                <a:off x="477360" y="1295280"/>
                <a:ext cx="8460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14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Box 55"/>
            <p:cNvSpPr/>
            <p:nvPr/>
          </p:nvSpPr>
          <p:spPr>
            <a:xfrm>
              <a:off x="0" y="4608720"/>
              <a:ext cx="16002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ஒரு ம்ணிநேரத்திற்கு  ஒரு மாணவன் தற்கொலைச் செய்து கொள்கிறான்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6" descr=""/>
            <p:cNvPicPr/>
            <p:nvPr/>
          </p:nvPicPr>
          <p:blipFill>
            <a:blip r:embed="rId2"/>
            <a:stretch/>
          </p:blipFill>
          <p:spPr>
            <a:xfrm>
              <a:off x="534240" y="2482920"/>
              <a:ext cx="389880" cy="6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44"/>
            <p:cNvSpPr/>
            <p:nvPr/>
          </p:nvSpPr>
          <p:spPr>
            <a:xfrm>
              <a:off x="1752480" y="4876920"/>
              <a:ext cx="1600200" cy="10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62626"/>
                  </a:solidFill>
                  <a:latin typeface="Calibri"/>
                </a:rPr>
                <a:t>இரத்த் சோகையின் இடைநிலை சுழற்சியை நிலைநிறுத்துகிறத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ight Arrow 74"/>
          <p:cNvSpPr/>
          <p:nvPr/>
        </p:nvSpPr>
        <p:spPr>
          <a:xfrm rot="5400000">
            <a:off x="3611880" y="3394800"/>
            <a:ext cx="1028880" cy="1096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8"/>
          <p:cNvSpPr/>
          <p:nvPr/>
        </p:nvSpPr>
        <p:spPr>
          <a:xfrm>
            <a:off x="3429000" y="4495680"/>
            <a:ext cx="160020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புகையிலையினால்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0%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மாற்ற முடியாத கடனீடுகள்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NCDs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9"/>
          <p:cNvGrpSpPr/>
          <p:nvPr/>
        </p:nvGrpSpPr>
        <p:grpSpPr>
          <a:xfrm>
            <a:off x="6934320" y="1295280"/>
            <a:ext cx="1981080" cy="5014440"/>
            <a:chOff x="6934320" y="1295280"/>
            <a:chExt cx="1981080" cy="5014440"/>
          </a:xfrm>
        </p:grpSpPr>
        <p:sp>
          <p:nvSpPr>
            <p:cNvPr id="89" name="Right Arrow 92"/>
            <p:cNvSpPr/>
            <p:nvPr/>
          </p:nvSpPr>
          <p:spPr>
            <a:xfrm rot="5400000">
              <a:off x="7235640" y="3660840"/>
              <a:ext cx="1100160" cy="1093680"/>
            </a:xfrm>
            <a:prstGeom prst="rightArrow">
              <a:avLst>
                <a:gd name="adj1" fmla="val 50000"/>
                <a:gd name="adj2" fmla="val 50296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96"/>
            <p:cNvGrpSpPr/>
            <p:nvPr/>
          </p:nvGrpSpPr>
          <p:grpSpPr>
            <a:xfrm>
              <a:off x="6934320" y="1295280"/>
              <a:ext cx="1954440" cy="1458720"/>
              <a:chOff x="6934320" y="1295280"/>
              <a:chExt cx="1954440" cy="1458720"/>
            </a:xfrm>
          </p:grpSpPr>
          <p:grpSp>
            <p:nvGrpSpPr>
              <p:cNvPr id="91" name="Group 103"/>
              <p:cNvGrpSpPr/>
              <p:nvPr/>
            </p:nvGrpSpPr>
            <p:grpSpPr>
              <a:xfrm>
                <a:off x="6934320" y="1295280"/>
                <a:ext cx="1945080" cy="1189440"/>
                <a:chOff x="6934320" y="1295280"/>
                <a:chExt cx="1945080" cy="1189440"/>
              </a:xfrm>
            </p:grpSpPr>
            <p:sp>
              <p:nvSpPr>
                <p:cNvPr id="92" name="TextBox 106"/>
                <p:cNvSpPr/>
                <p:nvPr/>
              </p:nvSpPr>
              <p:spPr>
                <a:xfrm>
                  <a:off x="6934320" y="1523880"/>
                  <a:ext cx="1945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d0d0d"/>
                      </a:solidFill>
                      <a:latin typeface="Calibri"/>
                    </a:rPr>
                    <a:t>18</a:t>
                  </a:r>
                  <a:r>
                    <a:rPr b="0" lang="en-US" sz="1200" spc="-1" strike="noStrike">
                      <a:solidFill>
                        <a:srgbClr val="0d0d0d"/>
                      </a:solidFill>
                      <a:latin typeface="Calibri"/>
                    </a:rPr>
                    <a:t> </a:t>
                  </a:r>
                  <a:r>
                    <a:rPr b="0" lang="en-US" sz="1200" spc="-1" strike="noStrike">
                      <a:solidFill>
                        <a:srgbClr val="0d0d0d"/>
                      </a:solidFill>
                      <a:latin typeface="Calibri"/>
                    </a:rPr>
                    <a:t>க்கும்  குறைவான வயதில்   பெண்கள் திருமணம்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107"/>
                <p:cNvSpPr/>
                <p:nvPr/>
              </p:nvSpPr>
              <p:spPr>
                <a:xfrm>
                  <a:off x="7400880" y="1295280"/>
                  <a:ext cx="1133640" cy="21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marL="512640" indent="-512640"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4f81bd"/>
                      </a:solidFill>
                      <a:latin typeface="Calibri"/>
                    </a:rPr>
                    <a:t>27%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Box 104"/>
              <p:cNvSpPr/>
              <p:nvPr/>
            </p:nvSpPr>
            <p:spPr>
              <a:xfrm>
                <a:off x="6934320" y="2361960"/>
                <a:ext cx="195444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100"/>
            <p:cNvSpPr/>
            <p:nvPr/>
          </p:nvSpPr>
          <p:spPr>
            <a:xfrm>
              <a:off x="6934320" y="4495680"/>
              <a:ext cx="1981080" cy="18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400" spc="-1" strike="noStrike">
                  <a:solidFill>
                    <a:srgbClr val="000000"/>
                  </a:solidFill>
                  <a:latin typeface="Calibri"/>
                </a:rPr>
                <a:t>8% </a:t>
              </a:r>
              <a:r>
                <a:rPr b="1" lang="en-IN" sz="1100" spc="-1" strike="noStrike">
                  <a:solidFill>
                    <a:srgbClr val="000000"/>
                  </a:solidFill>
                  <a:latin typeface="Calibri"/>
                </a:rPr>
                <a:t>திருமண வயதிற்கு முன்பாக தாய்மையடைவதால் குறைபாடுடைய குழந்தைகளாக பிறக்கிறார்கள்</a:t>
              </a:r>
              <a:r>
                <a:rPr b="0" lang="en-IN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02" descr=""/>
            <p:cNvPicPr/>
            <p:nvPr/>
          </p:nvPicPr>
          <p:blipFill>
            <a:blip r:embed="rId3"/>
            <a:stretch/>
          </p:blipFill>
          <p:spPr>
            <a:xfrm>
              <a:off x="7612560" y="2742840"/>
              <a:ext cx="46692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8"/>
          <p:cNvGrpSpPr/>
          <p:nvPr/>
        </p:nvGrpSpPr>
        <p:grpSpPr>
          <a:xfrm>
            <a:off x="5375160" y="1219320"/>
            <a:ext cx="1641600" cy="4834080"/>
            <a:chOff x="5375160" y="1219320"/>
            <a:chExt cx="1641600" cy="4834080"/>
          </a:xfrm>
        </p:grpSpPr>
        <p:sp>
          <p:nvSpPr>
            <p:cNvPr id="98" name="Right Arrow 109"/>
            <p:cNvSpPr/>
            <p:nvPr/>
          </p:nvSpPr>
          <p:spPr>
            <a:xfrm rot="5400000">
              <a:off x="5476680" y="3495600"/>
              <a:ext cx="1162080" cy="990720"/>
            </a:xfrm>
            <a:prstGeom prst="rightArrow">
              <a:avLst>
                <a:gd name="adj1" fmla="val 50000"/>
                <a:gd name="adj2" fmla="val 58648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10"/>
            <p:cNvGrpSpPr/>
            <p:nvPr/>
          </p:nvGrpSpPr>
          <p:grpSpPr>
            <a:xfrm>
              <a:off x="5410080" y="1219320"/>
              <a:ext cx="1606680" cy="907920"/>
              <a:chOff x="5410080" y="1219320"/>
              <a:chExt cx="1606680" cy="907920"/>
            </a:xfrm>
          </p:grpSpPr>
          <p:sp>
            <p:nvSpPr>
              <p:cNvPr id="100" name="TextBox 113"/>
              <p:cNvSpPr/>
              <p:nvPr/>
            </p:nvSpPr>
            <p:spPr>
              <a:xfrm>
                <a:off x="5410080" y="1486080"/>
                <a:ext cx="1606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வன்முறைக்கு ஆளாகிறார்கள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114"/>
              <p:cNvSpPr/>
              <p:nvPr/>
            </p:nvSpPr>
            <p:spPr>
              <a:xfrm>
                <a:off x="5641920" y="1219320"/>
                <a:ext cx="7254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16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Box 111"/>
            <p:cNvSpPr/>
            <p:nvPr/>
          </p:nvSpPr>
          <p:spPr>
            <a:xfrm>
              <a:off x="5375160" y="4718160"/>
              <a:ext cx="163548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2000" spc="-1" strike="noStrike">
                  <a:solidFill>
                    <a:srgbClr val="000000"/>
                  </a:solidFill>
                  <a:latin typeface="Calibri"/>
                </a:rPr>
                <a:t>24% </a:t>
              </a:r>
              <a:r>
                <a:rPr b="0" lang="en-IN" sz="1200" spc="-1" strike="noStrike">
                  <a:solidFill>
                    <a:srgbClr val="000000"/>
                  </a:solidFill>
                  <a:latin typeface="Calibri"/>
                </a:rPr>
                <a:t>பெண்கள் திருமணம் சார்ந்த வன்கொடுமை புகார்கள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112" descr=""/>
            <p:cNvPicPr/>
            <p:nvPr/>
          </p:nvPicPr>
          <p:blipFill>
            <a:blip r:embed="rId4"/>
            <a:stretch/>
          </p:blipFill>
          <p:spPr>
            <a:xfrm>
              <a:off x="5806440" y="2611800"/>
              <a:ext cx="389160" cy="74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10"/>
          <p:cNvGrpSpPr/>
          <p:nvPr/>
        </p:nvGrpSpPr>
        <p:grpSpPr>
          <a:xfrm>
            <a:off x="3581280" y="1295280"/>
            <a:ext cx="1600200" cy="1219320"/>
            <a:chOff x="3581280" y="1295280"/>
            <a:chExt cx="1600200" cy="1219320"/>
          </a:xfrm>
        </p:grpSpPr>
        <p:sp>
          <p:nvSpPr>
            <p:cNvPr id="105" name="TextBox 85"/>
            <p:cNvSpPr/>
            <p:nvPr/>
          </p:nvSpPr>
          <p:spPr>
            <a:xfrm>
              <a:off x="3581280" y="12952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f81bd"/>
                  </a:solidFill>
                  <a:latin typeface="Calibri"/>
                </a:rPr>
                <a:t>8-1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3593880" y="1822320"/>
              <a:ext cx="158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Calibri"/>
                </a:rPr>
                <a:t>மது மற்றும் புகைக்கிறார்கள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3952800" y="196524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1" descr=""/>
          <p:cNvPicPr/>
          <p:nvPr/>
        </p:nvPicPr>
        <p:blipFill>
          <a:blip r:embed="rId5"/>
          <a:stretch/>
        </p:blipFill>
        <p:spPr>
          <a:xfrm>
            <a:off x="3813120" y="2590920"/>
            <a:ext cx="3891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6"/>
          <a:stretch/>
        </p:blipFill>
        <p:spPr>
          <a:xfrm>
            <a:off x="4110120" y="2759040"/>
            <a:ext cx="257040" cy="34308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8D32-DAB7-44B7-994E-CD10C08DA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2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119160" y="2095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குழந்தைகளுக்கான முதலீடு ஏன்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"/>
          <p:cNvGrpSpPr/>
          <p:nvPr/>
        </p:nvGrpSpPr>
        <p:grpSpPr>
          <a:xfrm>
            <a:off x="533520" y="1219320"/>
            <a:ext cx="8008920" cy="4157640"/>
            <a:chOff x="533520" y="1219320"/>
            <a:chExt cx="8008920" cy="415764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1106280" y="1219320"/>
              <a:ext cx="117216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"/>
            <p:cNvPicPr/>
            <p:nvPr/>
          </p:nvPicPr>
          <p:blipFill>
            <a:blip r:embed="rId2"/>
            <a:stretch/>
          </p:blipFill>
          <p:spPr>
            <a:xfrm>
              <a:off x="3896280" y="1236240"/>
              <a:ext cx="1159200" cy="15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"/>
            <p:cNvPicPr/>
            <p:nvPr/>
          </p:nvPicPr>
          <p:blipFill>
            <a:blip r:embed="rId3"/>
            <a:stretch/>
          </p:blipFill>
          <p:spPr>
            <a:xfrm>
              <a:off x="6724800" y="1236240"/>
              <a:ext cx="117252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6"/>
            <p:cNvSpPr/>
            <p:nvPr/>
          </p:nvSpPr>
          <p:spPr>
            <a:xfrm>
              <a:off x="533520" y="2970360"/>
              <a:ext cx="231768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மும்மடங்கு பலன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குழந்தைகளின் சுகாதாரத்தை பேணுதல்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எதிர்கால முதிர்பருவத்தினரின்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சுகாதாரத்தை பேணுதல்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அடுத்த தலைமுறையினரின்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சுகாதாரத்தை பேணுதல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7"/>
            <p:cNvSpPr/>
            <p:nvPr/>
          </p:nvSpPr>
          <p:spPr>
            <a:xfrm>
              <a:off x="3091680" y="2970360"/>
              <a:ext cx="25473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ஒரு ஆண்டில் ஒரு குழந்தைக்கு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D 5.2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வீதம் செலவிடப்படுகிறது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இது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மடங்கு சமூக பொருளாதார இலாபத்தை த் தரும்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8"/>
            <p:cNvSpPr/>
            <p:nvPr/>
          </p:nvSpPr>
          <p:spPr>
            <a:xfrm>
              <a:off x="6079680" y="2970360"/>
              <a:ext cx="24627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உயர்நிலை பள்ளிக் கல்விக்கான முதலீடு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ஏற்படும் செலவீனத்தை விட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2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மடங்கு பொருளாதார லாபத்தைத் தரும்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380880" y="621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ource: Lancet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BAD-D59F-4BBB-BDCF-70EC3AB08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966960" y="15228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கருப்பொருள்கள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Diagram 4" descr=""/>
          <p:cNvPicPr/>
          <p:nvPr/>
        </p:nvPicPr>
        <p:blipFill>
          <a:blip r:embed="rId1"/>
          <a:stretch/>
        </p:blipFill>
        <p:spPr>
          <a:xfrm>
            <a:off x="241200" y="609480"/>
            <a:ext cx="8636040" cy="6363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74AB-C86C-41AF-AE29-83613718C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Title 1"/>
          <p:cNvGrpSpPr/>
          <p:nvPr/>
        </p:nvGrpSpPr>
        <p:grpSpPr>
          <a:xfrm>
            <a:off x="317520" y="571680"/>
            <a:ext cx="8648640" cy="6083280"/>
            <a:chOff x="317520" y="571680"/>
            <a:chExt cx="8648640" cy="6083280"/>
          </a:xfrm>
        </p:grpSpPr>
        <p:pic>
          <p:nvPicPr>
            <p:cNvPr id="128" name="Title 1" descr=""/>
            <p:cNvPicPr/>
            <p:nvPr/>
          </p:nvPicPr>
          <p:blipFill>
            <a:blip r:embed="rId1"/>
            <a:stretch/>
          </p:blipFill>
          <p:spPr>
            <a:xfrm>
              <a:off x="317520" y="571680"/>
              <a:ext cx="8648640" cy="60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"/>
            <p:cNvSpPr/>
            <p:nvPr/>
          </p:nvSpPr>
          <p:spPr>
            <a:xfrm>
              <a:off x="380880" y="609480"/>
              <a:ext cx="853452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a-IN" sz="4800" spc="-1" strike="noStrike">
                  <a:solidFill>
                    <a:srgbClr val="ffffff"/>
                  </a:solidFill>
                  <a:latin typeface="Arial"/>
                </a:rPr>
                <a:t>தனியாள் ஆய்வுகள்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ஏதேனும் ஒரு தனியாள் ஆய்வு குறித்து விவாதிக்க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BEC-0442-40C6-A9DA-7E6A743C5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arojyadav</dc:creator>
  <dc:description/>
  <dc:language>en-US</dc:language>
  <cp:lastModifiedBy>hp1</cp:lastModifiedBy>
  <dcterms:modified xsi:type="dcterms:W3CDTF">2019-10-01T11:29:28Z</dcterms:modified>
  <cp:revision>320</cp:revision>
  <dc:subject/>
  <dc:title>Health and Wellbeing in Schools</dc:title>
</cp:coreProperties>
</file>